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2632988" cy="320436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8D8-0584-401F-BA27-9D3E894A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6680" y="2847960"/>
            <a:ext cx="19237320" cy="53402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6680" y="9255240"/>
            <a:ext cx="192373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96680" y="19297440"/>
            <a:ext cx="192373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CF7-A444-4651-8F6E-62BA0B2F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6680" y="2847960"/>
            <a:ext cx="19237320" cy="53402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6680" y="9255240"/>
            <a:ext cx="93877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4200" y="9255240"/>
            <a:ext cx="93877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96680" y="19297440"/>
            <a:ext cx="93877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554200" y="19297440"/>
            <a:ext cx="93877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FE5-03B2-407B-A101-E0A15DFA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6680" y="2847960"/>
            <a:ext cx="19237320" cy="53402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6680" y="9255240"/>
            <a:ext cx="619416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00800" y="9255240"/>
            <a:ext cx="619416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05280" y="9255240"/>
            <a:ext cx="619416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96680" y="19297440"/>
            <a:ext cx="619416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200800" y="19297440"/>
            <a:ext cx="619416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705280" y="19297440"/>
            <a:ext cx="619416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53E-B74A-47B9-AF57-09DB91CA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6680" y="2847960"/>
            <a:ext cx="19237320" cy="53402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96680" y="9255240"/>
            <a:ext cx="19237320" cy="192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24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875-9AC8-41C3-9B0E-680DF5C2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6680" y="2847960"/>
            <a:ext cx="19237320" cy="53402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6680" y="9255240"/>
            <a:ext cx="19237320" cy="192261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782-3D4F-41B1-8E21-5EB9C0D4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6680" y="2847960"/>
            <a:ext cx="19237320" cy="53402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96680" y="9255240"/>
            <a:ext cx="9387720" cy="192261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554200" y="9255240"/>
            <a:ext cx="9387720" cy="192261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7B1-E72E-4C56-A097-0E5F89FF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6680" y="2847960"/>
            <a:ext cx="19237320" cy="53402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A51-2589-41AC-BACE-4F86FA8D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6680" y="2847960"/>
            <a:ext cx="19237320" cy="247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2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AAD-DE60-4FD7-9593-A51CFDB5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6680" y="2847960"/>
            <a:ext cx="19237320" cy="53402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96680" y="9255240"/>
            <a:ext cx="93877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554200" y="9255240"/>
            <a:ext cx="9387720" cy="192261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96680" y="19297440"/>
            <a:ext cx="93877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6F7-9848-43C3-BC0C-6BB51683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6680" y="2847960"/>
            <a:ext cx="19237320" cy="53402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6680" y="9255240"/>
            <a:ext cx="9387720" cy="192261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554200" y="9255240"/>
            <a:ext cx="93877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4200" y="19297440"/>
            <a:ext cx="93877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E14-4917-4B46-8FB3-24DABD92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6680" y="2847960"/>
            <a:ext cx="19237320" cy="53402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6680" y="9255240"/>
            <a:ext cx="93877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554200" y="9255240"/>
            <a:ext cx="93877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6680" y="19297440"/>
            <a:ext cx="19237320" cy="91706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24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AC1-93AA-4803-8549-77B3245D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6680" y="2847960"/>
            <a:ext cx="19237320" cy="534024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6680" y="9255240"/>
            <a:ext cx="19237320" cy="192261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marL="1171440" indent="-1171440">
              <a:spcBef>
                <a:spcPts val="2724"/>
              </a:spcBef>
              <a:buClr>
                <a:srgbClr val="000000"/>
              </a:buClr>
              <a:buFont typeface="Times New Roman"/>
              <a:buChar char="•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1" marL="2538360" indent="-976320">
              <a:spcBef>
                <a:spcPts val="2724"/>
              </a:spcBef>
              <a:buClr>
                <a:srgbClr val="000000"/>
              </a:buClr>
              <a:buFont typeface="Times New Roman"/>
              <a:buChar char="–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2" marL="3905280" indent="-781200">
              <a:spcBef>
                <a:spcPts val="2724"/>
              </a:spcBef>
              <a:buClr>
                <a:srgbClr val="000000"/>
              </a:buClr>
              <a:buFont typeface="Times New Roman"/>
              <a:buChar char="•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3" marL="5467320" indent="-780840">
              <a:spcBef>
                <a:spcPts val="2724"/>
              </a:spcBef>
              <a:buClr>
                <a:srgbClr val="000000"/>
              </a:buClr>
              <a:buFont typeface="Times New Roman"/>
              <a:buChar char="–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4" marL="7029360" indent="-780840">
              <a:spcBef>
                <a:spcPts val="2724"/>
              </a:spcBef>
              <a:buClr>
                <a:srgbClr val="000000"/>
              </a:buClr>
              <a:buFont typeface="Times New Roman"/>
              <a:buChar char="»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5" marL="7029360" indent="-780840">
              <a:spcBef>
                <a:spcPts val="2724"/>
              </a:spcBef>
              <a:buClr>
                <a:srgbClr val="000000"/>
              </a:buClr>
              <a:buFont typeface="Times New Roman"/>
              <a:buChar char="»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  <a:p>
            <a:pPr lvl="6" marL="7029360" indent="-780840">
              <a:spcBef>
                <a:spcPts val="2724"/>
              </a:spcBef>
              <a:buClr>
                <a:srgbClr val="000000"/>
              </a:buClr>
              <a:buFont typeface="Times New Roman"/>
              <a:buChar char="»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96680" y="29193840"/>
            <a:ext cx="4714920" cy="21351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732440" y="29193840"/>
            <a:ext cx="7165800" cy="21351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219080" y="29193840"/>
            <a:ext cx="4714920" cy="21351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8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BFD8-DB46-42BF-8E50-2D9C7A85D119}" type="slidenum">
              <a:rPr b="0" lang="zh-CN" sz="48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0800" y="2093400"/>
            <a:ext cx="19237680" cy="18003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Title of the Paper in Bold Le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2887560" y="3635280"/>
            <a:ext cx="1648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2480" rIns="312480" tIns="156240" bIns="156240" anchor="ctr">
            <a:noAutofit/>
          </a:bodyPr>
          <a:p>
            <a:pPr algn="ctr"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Names of the Authors, in bold le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Author’s Affiliation, Italics, pay attention to upper and lower cases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9"/>
          <p:cNvSpPr/>
          <p:nvPr/>
        </p:nvSpPr>
        <p:spPr>
          <a:xfrm>
            <a:off x="457200" y="30783240"/>
            <a:ext cx="132206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Paper 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8"/>
          <p:cNvSpPr/>
          <p:nvPr/>
        </p:nvSpPr>
        <p:spPr>
          <a:xfrm>
            <a:off x="5411880" y="30783240"/>
            <a:ext cx="6121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Contact emai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427"/>
          <p:cNvGrpSpPr/>
          <p:nvPr/>
        </p:nvGrpSpPr>
        <p:grpSpPr>
          <a:xfrm>
            <a:off x="442800" y="5219640"/>
            <a:ext cx="21591720" cy="24626520"/>
            <a:chOff x="442800" y="5219640"/>
            <a:chExt cx="21591720" cy="24626520"/>
          </a:xfrm>
        </p:grpSpPr>
        <p:sp>
          <p:nvSpPr>
            <p:cNvPr id="46" name="Rectangle 386"/>
            <p:cNvSpPr/>
            <p:nvPr/>
          </p:nvSpPr>
          <p:spPr>
            <a:xfrm>
              <a:off x="442800" y="5219640"/>
              <a:ext cx="21591720" cy="8076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391"/>
            <p:cNvSpPr/>
            <p:nvPr/>
          </p:nvSpPr>
          <p:spPr>
            <a:xfrm>
              <a:off x="463320" y="5219640"/>
              <a:ext cx="10509480" cy="1211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411"/>
            <p:cNvSpPr/>
            <p:nvPr/>
          </p:nvSpPr>
          <p:spPr>
            <a:xfrm>
              <a:off x="11513880" y="5219640"/>
              <a:ext cx="10501560" cy="1211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414"/>
            <p:cNvSpPr/>
            <p:nvPr/>
          </p:nvSpPr>
          <p:spPr>
            <a:xfrm>
              <a:off x="452160" y="17730720"/>
              <a:ext cx="10553760" cy="12114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415"/>
            <p:cNvSpPr/>
            <p:nvPr/>
          </p:nvSpPr>
          <p:spPr>
            <a:xfrm>
              <a:off x="11536200" y="17730720"/>
              <a:ext cx="10490400" cy="12114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425"/>
            <p:cNvSpPr/>
            <p:nvPr/>
          </p:nvSpPr>
          <p:spPr>
            <a:xfrm>
              <a:off x="442800" y="13692240"/>
              <a:ext cx="21591720" cy="7680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26"/>
            <p:cNvSpPr/>
            <p:nvPr/>
          </p:nvSpPr>
          <p:spPr>
            <a:xfrm>
              <a:off x="442800" y="22165560"/>
              <a:ext cx="21591720" cy="768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484"/>
          <p:cNvSpPr/>
          <p:nvPr/>
        </p:nvSpPr>
        <p:spPr>
          <a:xfrm>
            <a:off x="514440" y="13933440"/>
            <a:ext cx="1015344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2. The guidelines for poster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o not change the font sizes in the template, 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ave one clear line between s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number of figures and tables should be no more than five i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notes should appear at the bottom of the po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ponsor and financial support acknowledgments are placed in the unnumbered foot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corresponding author’s contact email would be placed on the bottom of the po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85"/>
          <p:cNvSpPr/>
          <p:nvPr/>
        </p:nvSpPr>
        <p:spPr>
          <a:xfrm>
            <a:off x="11676240" y="6156360"/>
            <a:ext cx="10210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SimSu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. Samples of Figures and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lease follow the samples  to prepare your Figures and Tables, The number of Figures and Tables should be no more than five in a po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25"/>
          <p:cNvSpPr/>
          <p:nvPr/>
        </p:nvSpPr>
        <p:spPr>
          <a:xfrm>
            <a:off x="12539520" y="12565080"/>
            <a:ext cx="8534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SimSun"/>
              </a:rPr>
              <a:t>Fig. X. Title of figure, central just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243"/>
          <p:cNvSpPr/>
          <p:nvPr/>
        </p:nvSpPr>
        <p:spPr>
          <a:xfrm>
            <a:off x="12290400" y="24528600"/>
            <a:ext cx="18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273"/>
          <p:cNvSpPr/>
          <p:nvPr/>
        </p:nvSpPr>
        <p:spPr>
          <a:xfrm>
            <a:off x="585720" y="6156360"/>
            <a:ext cx="102110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1. Introduction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is the template for preparation of post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o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13th International Conference on Information and Knowledge Technology (IKT)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lease use this document as a sample of the conference poster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poster should be printed either o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ne Portrait A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ize paper or o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our Portrait A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ize 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304" descr=""/>
          <p:cNvPicPr/>
          <p:nvPr/>
        </p:nvPicPr>
        <p:blipFill>
          <a:blip r:embed="rId1"/>
          <a:stretch/>
        </p:blipFill>
        <p:spPr>
          <a:xfrm>
            <a:off x="11820600" y="8532720"/>
            <a:ext cx="9937800" cy="3724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305"/>
          <p:cNvSpPr/>
          <p:nvPr/>
        </p:nvSpPr>
        <p:spPr>
          <a:xfrm>
            <a:off x="11726280" y="13933440"/>
            <a:ext cx="100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able 1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ing of the Table left justified. Do not use vertical lines withi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table, use horizontal lines only to separate headings from table e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         Xx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 X X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 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329"/>
          <p:cNvSpPr/>
          <p:nvPr/>
        </p:nvSpPr>
        <p:spPr>
          <a:xfrm>
            <a:off x="11676240" y="22582080"/>
            <a:ext cx="1015344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Other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o not change the font sizes in the template, 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ave one clear line between s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number of figures and tables should be no more than five i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notes should appear at the bottom of the po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ponsor and financial support acknowledgments are placed in the unnumbered foot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corresponding author’s contact email would be placed on the bottom of the po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330"/>
          <p:cNvSpPr/>
          <p:nvPr/>
        </p:nvSpPr>
        <p:spPr>
          <a:xfrm>
            <a:off x="585720" y="22574160"/>
            <a:ext cx="1051416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Other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o not change the font sizes in the template, 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ave one clear line between s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number of figures and tables should be no more than five i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notes should appear at the bottom of the po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ponsor and financial support acknowledgments are placed in the unnumbered foot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corresponding author’s contact email would be placed on the bottom of the po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3994200" y="749160"/>
            <a:ext cx="1481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ccff"/>
                </a:solidFill>
                <a:latin typeface="Calibri"/>
                <a:ea typeface="Calibri"/>
              </a:rPr>
              <a:t>21th National Electrical Student Confere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ff"/>
                </a:solidFill>
                <a:latin typeface="Calibri"/>
                <a:ea typeface="Calibri"/>
              </a:rPr>
              <a:t>ISCEE20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2"/>
          <a:stretch/>
        </p:blipFill>
        <p:spPr>
          <a:xfrm>
            <a:off x="1522440" y="9020160"/>
            <a:ext cx="73580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3"/>
          <a:stretch/>
        </p:blipFill>
        <p:spPr>
          <a:xfrm>
            <a:off x="19440360" y="1557360"/>
            <a:ext cx="2200320" cy="3049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4"/>
          <a:stretch/>
        </p:blipFill>
        <p:spPr>
          <a:xfrm>
            <a:off x="306360" y="1258920"/>
            <a:ext cx="3284640" cy="4006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5"/>
          <a:stretch/>
        </p:blipFill>
        <p:spPr>
          <a:xfrm>
            <a:off x="979560" y="507960"/>
            <a:ext cx="693720" cy="69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6"/>
          <a:stretch/>
        </p:blipFill>
        <p:spPr>
          <a:xfrm>
            <a:off x="2060640" y="512640"/>
            <a:ext cx="984240" cy="58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7"/>
          <a:stretch/>
        </p:blipFill>
        <p:spPr>
          <a:xfrm>
            <a:off x="21278880" y="122400"/>
            <a:ext cx="1166760" cy="112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8"/>
          <a:stretch/>
        </p:blipFill>
        <p:spPr>
          <a:xfrm>
            <a:off x="20131200" y="351000"/>
            <a:ext cx="952560" cy="70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9"/>
          <a:stretch/>
        </p:blipFill>
        <p:spPr>
          <a:xfrm>
            <a:off x="18926280" y="263520"/>
            <a:ext cx="885600" cy="885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10"/>
          <a:stretch/>
        </p:blipFill>
        <p:spPr>
          <a:xfrm>
            <a:off x="17907120" y="338040"/>
            <a:ext cx="69516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10:33:07Z</dcterms:created>
  <dc:creator>Max Meng</dc:creator>
  <dc:description/>
  <dc:language>en-US</dc:language>
  <cp:lastModifiedBy>shahla havas</cp:lastModifiedBy>
  <cp:lastPrinted>2000-05-22T15:29:58Z</cp:lastPrinted>
  <dcterms:modified xsi:type="dcterms:W3CDTF">2025-04-24T10:50:51Z</dcterms:modified>
  <cp:revision>130</cp:revision>
  <dc:subject/>
  <dc:title>Poster Template 1</dc:title>
</cp:coreProperties>
</file>