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2631400" cy="320421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AF7-1CE5-4776-85DB-9BB747EE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97040" y="9255240"/>
            <a:ext cx="954216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97040" y="19297440"/>
            <a:ext cx="954216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4ED-FB2E-4E87-BD5F-DA5A7834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97040" y="92552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86560" y="92552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97040" y="192974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86560" y="192974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9CB-302A-4A83-8E26-35897A8E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97040" y="9255240"/>
            <a:ext cx="3072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3360" y="9255240"/>
            <a:ext cx="3072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149680" y="9255240"/>
            <a:ext cx="3072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97040" y="19297440"/>
            <a:ext cx="3072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923360" y="19297440"/>
            <a:ext cx="3072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149680" y="19297440"/>
            <a:ext cx="3072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3BA-64BF-4D21-B93E-7700060C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97040" y="9255240"/>
            <a:ext cx="9542160" cy="19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7D3-0FD8-499B-B87A-87B5C852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97040" y="9255240"/>
            <a:ext cx="9542160" cy="19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6EA-277E-4B17-8D34-A9769693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97040" y="9255240"/>
            <a:ext cx="4656240" cy="19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86560" y="9255240"/>
            <a:ext cx="4656240" cy="19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649-D359-4543-A6D8-ECFC6A07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D5A-029C-4B1E-A8A3-B9C50E75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7040" y="2847960"/>
            <a:ext cx="19236960" cy="247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3D5-0E06-4136-B6FE-9C491081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97040" y="92552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86560" y="9255240"/>
            <a:ext cx="4656240" cy="19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97040" y="192974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DC2-BBF3-4743-B591-E8E64B9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97040" y="9255240"/>
            <a:ext cx="4656240" cy="19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86560" y="92552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86560" y="192974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FE7-1144-413C-B661-951BF6F2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97040" y="92552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86560" y="9255240"/>
            <a:ext cx="465624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97040" y="19297440"/>
            <a:ext cx="9542160" cy="91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451-3896-48E7-9609-F0E299CF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7040" y="2847960"/>
            <a:ext cx="19236960" cy="533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12480" rIns="312480" tIns="156240" bIns="1562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GB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7040" y="9255240"/>
            <a:ext cx="9542160" cy="19225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12480" rIns="312480" tIns="156240" bIns="156240" anchor="t">
            <a:noAutofit/>
          </a:bodyPr>
          <a:p>
            <a:pPr marL="1171440" indent="-11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38360" indent="-976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05280" indent="-781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67320" indent="-7812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GB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7029360" indent="-7812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GB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1391840" y="9255240"/>
            <a:ext cx="9542160" cy="19225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12480" rIns="312480" tIns="156240" bIns="156240" anchor="t">
            <a:noAutofit/>
          </a:bodyPr>
          <a:p>
            <a:pPr marL="1171440" indent="-11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38360" indent="-976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05280" indent="-781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67320" indent="-7812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GB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7029360" indent="-7812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GB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1697040" y="29194200"/>
            <a:ext cx="4714560" cy="2134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12480" rIns="312480" tIns="156240" bIns="1562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7732800" y="29194200"/>
            <a:ext cx="7165440" cy="2134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12480" rIns="312480" tIns="156240" bIns="1562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16219440" y="29194200"/>
            <a:ext cx="4714560" cy="2134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12480" rIns="312480" tIns="156240" bIns="15624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30F2BB-C558-4F53-920D-1D18ACD9C0DC}" type="slidenum"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66800" y="2090520"/>
            <a:ext cx="19236960" cy="18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312480" rIns="312480" tIns="156240" bIns="15624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6000" spc="-1" strike="noStrike">
                <a:solidFill>
                  <a:srgbClr val="000000"/>
                </a:solidFill>
                <a:latin typeface="Calibri"/>
                <a:cs typeface="B Mitra"/>
              </a:rPr>
              <a:t>عنوان مقاله با حروف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宋体"/>
              </a:rPr>
              <a:t>BOLD</a:t>
            </a:r>
            <a:endParaRPr b="0" lang="en-GB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103200" y="3746520"/>
            <a:ext cx="16489080" cy="143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12480" rIns="312480" tIns="156240" bIns="15624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itra"/>
              </a:rPr>
              <a:t>نام نویسندگان با حروف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B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0" i="1" lang="fa-IR" sz="4000" spc="-1" strike="noStrike">
                <a:solidFill>
                  <a:srgbClr val="000000"/>
                </a:solidFill>
                <a:latin typeface="Calibri"/>
                <a:cs typeface="B Mitra"/>
              </a:rPr>
              <a:t>موسسه یا دانشگاه نویسنده با حروف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Italic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9"/>
          <p:cNvSpPr/>
          <p:nvPr/>
        </p:nvSpPr>
        <p:spPr>
          <a:xfrm>
            <a:off x="15244920" y="30665880"/>
            <a:ext cx="6643440" cy="55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r" rtl="1">
              <a:lnSpc>
                <a:spcPct val="100000"/>
              </a:lnSpc>
              <a:spcBef>
                <a:spcPts val="1599"/>
              </a:spcBef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شماره مقال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78"/>
          <p:cNvSpPr/>
          <p:nvPr/>
        </p:nvSpPr>
        <p:spPr>
          <a:xfrm>
            <a:off x="10522080" y="30627720"/>
            <a:ext cx="6046560" cy="55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آدرس ایمیل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27"/>
          <p:cNvGrpSpPr/>
          <p:nvPr/>
        </p:nvGrpSpPr>
        <p:grpSpPr>
          <a:xfrm>
            <a:off x="442800" y="5219640"/>
            <a:ext cx="21591360" cy="24626520"/>
            <a:chOff x="442800" y="5219640"/>
            <a:chExt cx="21591360" cy="24626520"/>
          </a:xfrm>
        </p:grpSpPr>
        <p:sp>
          <p:nvSpPr>
            <p:cNvPr id="47" name="Rectangle 386"/>
            <p:cNvSpPr/>
            <p:nvPr/>
          </p:nvSpPr>
          <p:spPr>
            <a:xfrm>
              <a:off x="442800" y="5219640"/>
              <a:ext cx="21591360" cy="7680600"/>
            </a:xfrm>
            <a:prstGeom prst="rect">
              <a:avLst/>
            </a:prstGeom>
            <a:noFill/>
            <a:ln w="9525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391"/>
            <p:cNvSpPr/>
            <p:nvPr/>
          </p:nvSpPr>
          <p:spPr>
            <a:xfrm>
              <a:off x="463680" y="5219640"/>
              <a:ext cx="10508760" cy="13133160"/>
            </a:xfrm>
            <a:prstGeom prst="rect">
              <a:avLst/>
            </a:prstGeom>
            <a:noFill/>
            <a:ln w="9525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411"/>
            <p:cNvSpPr/>
            <p:nvPr/>
          </p:nvSpPr>
          <p:spPr>
            <a:xfrm>
              <a:off x="11514240" y="5219640"/>
              <a:ext cx="10500840" cy="13057200"/>
            </a:xfrm>
            <a:prstGeom prst="rect">
              <a:avLst/>
            </a:prstGeom>
            <a:noFill/>
            <a:ln w="9525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414"/>
            <p:cNvSpPr/>
            <p:nvPr/>
          </p:nvSpPr>
          <p:spPr>
            <a:xfrm>
              <a:off x="452520" y="19568880"/>
              <a:ext cx="10553400" cy="10275840"/>
            </a:xfrm>
            <a:prstGeom prst="rect">
              <a:avLst/>
            </a:prstGeom>
            <a:noFill/>
            <a:ln w="9525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425"/>
            <p:cNvSpPr/>
            <p:nvPr/>
          </p:nvSpPr>
          <p:spPr>
            <a:xfrm>
              <a:off x="442800" y="13692600"/>
              <a:ext cx="21591360" cy="5083920"/>
            </a:xfrm>
            <a:prstGeom prst="rect">
              <a:avLst/>
            </a:prstGeom>
            <a:noFill/>
            <a:ln w="9525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26"/>
            <p:cNvSpPr/>
            <p:nvPr/>
          </p:nvSpPr>
          <p:spPr>
            <a:xfrm>
              <a:off x="442800" y="18776880"/>
              <a:ext cx="21591360" cy="11069280"/>
            </a:xfrm>
            <a:prstGeom prst="rect">
              <a:avLst/>
            </a:prstGeom>
            <a:noFill/>
            <a:ln w="9525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484"/>
          <p:cNvSpPr/>
          <p:nvPr/>
        </p:nvSpPr>
        <p:spPr>
          <a:xfrm>
            <a:off x="11815920" y="13878000"/>
            <a:ext cx="10153440" cy="4476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دستورالعمل برای تهیه پوستر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اندازه فونت در قالب داده شده را تغییر ندهید، بخش ها را با یک خط مشخص جدا کنی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تعداد داده‌ها و جداول نباید در مجموع بیش از پنج عدد باش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پانوشت ها باید در پایین پوستر نوشته شون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حامیان مالی در پانوشت ، بدون شماره گذاری قرار داده شده باش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پست الکترونیکی  نویسنده باید در پایین پوستر قرار داده شده 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85"/>
          <p:cNvSpPr/>
          <p:nvPr/>
        </p:nvSpPr>
        <p:spPr>
          <a:xfrm>
            <a:off x="689760" y="5787360"/>
            <a:ext cx="10210320" cy="252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نمونه ای از شکلها ، نمودارها و جداول</a:t>
            </a:r>
            <a:br>
              <a:rPr sz="3200"/>
            </a:b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لطفا مانند نمونه آماده شده زیر ارقام و جداول را قرار دهید ، تعداد داده ها و جداول نباید بیش از پنج عدد در پوستر 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25"/>
          <p:cNvSpPr/>
          <p:nvPr/>
        </p:nvSpPr>
        <p:spPr>
          <a:xfrm>
            <a:off x="1528200" y="12146760"/>
            <a:ext cx="8534160" cy="514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lnSpc>
                <a:spcPct val="100000"/>
              </a:lnSpc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  <a:cs typeface="B Mitra"/>
              </a:rPr>
              <a:t>شک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عنوان شکل ، در وسط قرار داده ش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243"/>
          <p:cNvSpPr/>
          <p:nvPr/>
        </p:nvSpPr>
        <p:spPr>
          <a:xfrm>
            <a:off x="12290400" y="24528600"/>
            <a:ext cx="183960" cy="19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</a:pPr>
            <a:endParaRPr b="0" lang="en-US" sz="7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57" name="Text Box 7273"/>
          <p:cNvSpPr/>
          <p:nvPr/>
        </p:nvSpPr>
        <p:spPr>
          <a:xfrm>
            <a:off x="11458440" y="5805360"/>
            <a:ext cx="10210320" cy="4141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  <a:spcAft>
                <a:spcPts val="1199"/>
              </a:spcAf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معرفی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این الگو برای تهیه پوستر برای سیزدهمین کنفرانس بین المللی فناوری اطلاعات و دان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می‌باشد. لطفا از این سند به عنوان یک نمونه از پوستر کنفرانس استفاده کنید. نویسندگان مقاله باید فایل پوستر را با استفاده از این قالب به صورت فرم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درآورند. پوسترها باید در کاغذ انداز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یا در چهار کاغذ انداز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ایجاد شده باش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Aft>
                <a:spcPts val="1199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304" descr=""/>
          <p:cNvPicPr/>
          <p:nvPr/>
        </p:nvPicPr>
        <p:blipFill>
          <a:blip r:embed="rId1"/>
          <a:stretch/>
        </p:blipFill>
        <p:spPr>
          <a:xfrm>
            <a:off x="957240" y="8305920"/>
            <a:ext cx="9937440" cy="3723840"/>
          </a:xfrm>
          <a:prstGeom prst="rect">
            <a:avLst/>
          </a:prstGeom>
          <a:ln w="9525">
            <a:noFill/>
          </a:ln>
        </p:spPr>
      </p:pic>
      <p:sp>
        <p:nvSpPr>
          <p:cNvPr id="59" name="Text Box 7305"/>
          <p:cNvSpPr/>
          <p:nvPr/>
        </p:nvSpPr>
        <p:spPr>
          <a:xfrm>
            <a:off x="487800" y="13806360"/>
            <a:ext cx="10467720" cy="557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قسم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B Mitra"/>
              </a:rPr>
              <a:t>جدول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عنوان جدول باید سمت راست قرار گیرد. از خطوط عمودی در درون</a:t>
            </a:r>
            <a:br>
              <a:rPr sz="2800"/>
            </a:br>
            <a:r>
              <a:rPr b="0" lang="fa-IR" sz="2800" spc="-1" strike="noStrike">
                <a:solidFill>
                  <a:srgbClr val="000000"/>
                </a:solidFill>
                <a:latin typeface="Times New Roman"/>
                <a:cs typeface="B Mitra"/>
              </a:rPr>
              <a:t>جدول استفاده نکنید، فقط از خطوط افقی برای جدا کردن سرفصل ها استفاده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Xxx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X 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329"/>
          <p:cNvSpPr/>
          <p:nvPr/>
        </p:nvSpPr>
        <p:spPr>
          <a:xfrm>
            <a:off x="694440" y="19821960"/>
            <a:ext cx="10153440" cy="467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r" rtl="1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قسم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99"/>
              </a:spcBef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اندازه فونت در قالب داده شده را تغییر ندهید، بخش ها را با یک خط مشخص جدا کنی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تعداد داده‌ها و جداول نباید در مجموع بیش از پنج عدد باش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پانوشت ها باید در پایین پوستر نوشته شون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حامیان مالی در پانوشت ، بدون شماره گذاری قرار داده شده باش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پست الکترونیکی  نویسنده باید در پایین پوستر قرار داده شده 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330"/>
          <p:cNvSpPr/>
          <p:nvPr/>
        </p:nvSpPr>
        <p:spPr>
          <a:xfrm>
            <a:off x="11399760" y="19821960"/>
            <a:ext cx="10513800" cy="467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r" rtl="1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قسم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99"/>
              </a:spcBef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اندازه فونت در قالب داده شده را تغییر ندهید، بخش ها را با یک خط مشخص جدا کنی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تعداد داده‌ها و جداول نباید در مجموع بیش از پنج عدد باش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پانوشت ها باید در پایین پوستر نوشته شون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حامیان مالی در پانوشت ، بدون شماره‌گذاری قرار داده شده باشد.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B Mitra"/>
              </a:rPr>
              <a:t>پست الکترونیکی  نویسنده باید در پایین پوستر قرار داده شده 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3099240" y="1115280"/>
            <a:ext cx="1649700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a-IR" sz="6000" spc="-1" strike="noStrike">
                <a:solidFill>
                  <a:srgbClr val="00b0f0"/>
                </a:solidFill>
                <a:latin typeface="Calibri"/>
                <a:cs typeface="B Farnaz"/>
              </a:rPr>
              <a:t>بیست و یکمین کنفرانس ملی دانشجوی بر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2"/>
          <a:stretch/>
        </p:blipFill>
        <p:spPr>
          <a:xfrm>
            <a:off x="13545360" y="8947800"/>
            <a:ext cx="7357680" cy="386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19441080" y="1557360"/>
            <a:ext cx="2198880" cy="304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306000" y="1258560"/>
            <a:ext cx="3284280" cy="400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5"/>
          <a:stretch/>
        </p:blipFill>
        <p:spPr>
          <a:xfrm>
            <a:off x="979560" y="507600"/>
            <a:ext cx="693720" cy="69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6"/>
          <a:stretch/>
        </p:blipFill>
        <p:spPr>
          <a:xfrm>
            <a:off x="2060280" y="513360"/>
            <a:ext cx="984600" cy="587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7"/>
          <a:stretch/>
        </p:blipFill>
        <p:spPr>
          <a:xfrm>
            <a:off x="21279240" y="122400"/>
            <a:ext cx="1165320" cy="1127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8"/>
          <a:stretch/>
        </p:blipFill>
        <p:spPr>
          <a:xfrm>
            <a:off x="20131200" y="350280"/>
            <a:ext cx="952200" cy="70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9"/>
          <a:stretch/>
        </p:blipFill>
        <p:spPr>
          <a:xfrm>
            <a:off x="18926640" y="264240"/>
            <a:ext cx="885240" cy="88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10"/>
          <a:stretch/>
        </p:blipFill>
        <p:spPr>
          <a:xfrm>
            <a:off x="17907480" y="338040"/>
            <a:ext cx="693720" cy="849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4"/>
          <p:cNvSpPr/>
          <p:nvPr/>
        </p:nvSpPr>
        <p:spPr>
          <a:xfrm>
            <a:off x="11459880" y="19549440"/>
            <a:ext cx="10553400" cy="10275840"/>
          </a:xfrm>
          <a:prstGeom prst="rect">
            <a:avLst/>
          </a:prstGeom>
          <a:noFill/>
          <a:ln w="9525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  <Words>493</Words>
  <Paragraphs>25</Paragraphs>
  <Company>IMMPETU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10:33:07Z</dcterms:created>
  <dc:creator>Max Meng</dc:creator>
  <dc:description/>
  <dc:language>en-US</dc:language>
  <cp:lastModifiedBy>shahla havas</cp:lastModifiedBy>
  <cp:lastPrinted>2000-05-22T15:29:58Z</cp:lastPrinted>
  <dcterms:modified xsi:type="dcterms:W3CDTF">2025-04-24T10:46:29Z</dcterms:modified>
  <cp:revision>133</cp:revision>
  <dc:subject/>
  <dc:title>Poster Templat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1</vt:r8>
  </property>
</Properties>
</file>